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854-92C2-40B4-B282-DC72EA5C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C7C-6583-4467-AB63-A74B3F68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John – anchor chart for Math Talk Guidelin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0DF-9249-484F-8135-8861CC90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list on sticky notes or loose paper - facilitator collects notes and creates anchor chart during next activity (distributing learning l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eb – anchor chart of Big Idea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726-F325-48E6-B1AE-378BF106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FA3-A0A4-43DD-819A-8BCC3F40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93B-1C15-4806-9E19-6EB17D7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E3C-692F-47FA-9E83-ACCE6203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2F2-7422-4384-A86B-D091CFB5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2D81-3D6E-45F6-8EF9-71D72345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F183-E3F2-4AAA-9E70-95F1B6B5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4500-149C-4BF7-BB91-19722086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2A28-D0E2-458A-B1CA-9EDF03F2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1DF3-DAA5-4325-8A6B-1B1A86CF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87B4-4318-4FD6-AD03-E416356A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B761-1B3B-4508-A684-6C3AFD7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C5C-1475-4A81-A4F2-08FD35E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56EE-6699-4D7A-9ABA-53AC082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30D-57BF-4D94-AE35-DB74152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470-20C0-4EB6-A1DE-BBF31AF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3340-1E4C-4C42-8E4F-28679B52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BF3-48C4-402B-9526-157953E4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01E-9B61-4407-AC7B-FF502153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92B-9D8B-4FFB-8758-7B338C3B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E74-D288-468B-B2B6-D4E2FD4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54E-9A9E-4B06-A179-F999AA4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682-2A0C-4EBD-926A-4F2ADE6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BE0-CB06-441B-9068-09B404C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048-DEC9-4D9B-AED4-9673C563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8EF-F7AF-4780-9D04-AAD48A33D4E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CC72-3F6F-46CB-9DFA-6B2B0669ECC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uidelines for Math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rom LNS Research Monograph #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Expl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My strategy was…”; “I think ___ is saying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Agree with rea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Disagree with rea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Build 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I would like to build on ____’s idea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Go beyo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Another way to think about it is…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actising Math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problem your group matched to a Big Idea fairly easily - share your group’s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problem your group had difficulty matching to a Big Idea – share your group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Questions or Comments?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07640" y="4365720"/>
            <a:ext cx="5715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a great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e you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uild a collaborative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velop a common understanding of 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connections to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interesting fact about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to establish guidelines for how we will interact and learn together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What norms might make our work together mo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table group, list 3-5 n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list with the larger group (ancho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fessional Learning Log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ral purpo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on journa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stions / “Aha” mom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Minds On Proportional Reasoning</a:t>
            </a:r>
            <a:endParaRPr b="0" lang="en-US" sz="4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 group, sort the ‘answer’ cards int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explain your sort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 group, create a Frayer Model to represent your current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nd discu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model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th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6"/>
          <p:cNvGrpSpPr/>
          <p:nvPr/>
        </p:nvGrpSpPr>
        <p:grpSpPr>
          <a:xfrm>
            <a:off x="4268880" y="4221000"/>
            <a:ext cx="4767120" cy="2794680"/>
            <a:chOff x="4268880" y="4221000"/>
            <a:chExt cx="4767120" cy="2794680"/>
          </a:xfrm>
        </p:grpSpPr>
        <p:grpSp>
          <p:nvGrpSpPr>
            <p:cNvPr id="106" name="Group 4"/>
            <p:cNvGrpSpPr/>
            <p:nvPr/>
          </p:nvGrpSpPr>
          <p:grpSpPr>
            <a:xfrm>
              <a:off x="4282920" y="4221000"/>
              <a:ext cx="4636080" cy="2408760"/>
              <a:chOff x="4282920" y="4221000"/>
              <a:chExt cx="4636080" cy="2408760"/>
            </a:xfrm>
          </p:grpSpPr>
          <p:sp>
            <p:nvSpPr>
              <p:cNvPr id="107" name="Rectangle 5"/>
              <p:cNvSpPr/>
              <p:nvPr/>
            </p:nvSpPr>
            <p:spPr>
              <a:xfrm>
                <a:off x="4283280" y="4221000"/>
                <a:ext cx="4635720" cy="2408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6"/>
              <p:cNvSpPr/>
              <p:nvPr/>
            </p:nvSpPr>
            <p:spPr>
              <a:xfrm>
                <a:off x="5893560" y="5132520"/>
                <a:ext cx="1497600" cy="58572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"/>
              <p:cNvSpPr/>
              <p:nvPr/>
            </p:nvSpPr>
            <p:spPr>
              <a:xfrm flipV="1">
                <a:off x="6636600" y="4221000"/>
                <a:ext cx="0" cy="9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8"/>
              <p:cNvSpPr/>
              <p:nvPr/>
            </p:nvSpPr>
            <p:spPr>
              <a:xfrm flipV="1">
                <a:off x="6648480" y="5717880"/>
                <a:ext cx="0" cy="9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9"/>
              <p:cNvSpPr/>
              <p:nvPr/>
            </p:nvSpPr>
            <p:spPr>
              <a:xfrm flipH="1">
                <a:off x="4282920" y="5457960"/>
                <a:ext cx="162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0"/>
              <p:cNvSpPr/>
              <p:nvPr/>
            </p:nvSpPr>
            <p:spPr>
              <a:xfrm>
                <a:off x="7391520" y="5420160"/>
                <a:ext cx="14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5"/>
            <p:cNvSpPr/>
            <p:nvPr/>
          </p:nvSpPr>
          <p:spPr>
            <a:xfrm>
              <a:off x="4268880" y="6184800"/>
              <a:ext cx="15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4283280" y="4221000"/>
              <a:ext cx="15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7003080" y="42210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937560" y="61902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Non-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6299640" y="5157000"/>
              <a:ext cx="8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. 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nchor chart or your own handout to review the Big Ideas for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ach of the Big Ideas mean, in your ow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each problem card to one or more of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justify your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helle Lang</cp:lastModifiedBy>
  <dcterms:modified xsi:type="dcterms:W3CDTF">2010-08-16T01:23:24Z</dcterms:modified>
  <cp:revision>168</cp:revision>
  <dc:subject/>
  <dc:title>Slide 1</dc:title>
</cp:coreProperties>
</file>